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E316-7994-4C84-AE4B-FF23EFEB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FA16-D775-4E18-A64C-2F5577AF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BB9-312E-45E8-A002-CEE661C9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7B02-52CF-4948-8254-85C8DCC7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28EE-720D-46B0-873C-391B24B4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F830-6399-44EF-9E75-5BBD5C38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6818-F6EA-4AF8-A8C9-B282F103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273-036D-41F9-AC8B-DE6E9643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38BA-A3E6-49A4-A64A-069431F8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BFF2-8B53-4318-A94F-895FD47E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6D56-19B2-4750-8138-547541BF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90B0-0C38-4994-BB46-EE2BFDBA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DA1C-8847-4298-AE36-FB87CDFFE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925560"/>
            <a:ext cx="8915400" cy="4879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12520" y="3445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.1.  Professional Fees and Expenses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6T19:31:06Z</dcterms:created>
  <dc:creator>lopucki</dc:creator>
  <dc:description/>
  <dc:language>en-US</dc:language>
  <cp:lastModifiedBy>lopucki</cp:lastModifiedBy>
  <dcterms:modified xsi:type="dcterms:W3CDTF">2010-07-10T20:19:09Z</dcterms:modified>
  <cp:revision>2</cp:revision>
  <dc:subject/>
  <dc:title>Slide 1</dc:title>
</cp:coreProperties>
</file>